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06A-BE4E-4C2A-9EA5-30111FA5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BEC-D886-4BA9-94AD-E298B772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8E4-7C5D-4F9E-8DC5-520305C9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2EB-6F6A-4F08-9B82-EC684726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C2DD-8E7B-4788-A719-E545D2AB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CC05-9B57-4D5E-B039-EF5A57CE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7362-8285-443B-8C31-440158A7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FA0A-4E1E-43CD-9F82-B747D337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3283-F4BA-43D4-B285-DBF322E0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18FF-5E13-4AB9-8EE0-1C4AE1C8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475E-34B2-464C-BE60-0FD103B4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79D-5AE5-4F66-819E-3C7A5AD3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6C4D-0401-4543-AB93-1AFC53C8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B434-B615-4574-AFE5-F160BC64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0589-3D5C-46A9-8732-8BF05266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5655-635F-467B-B997-CA3567AE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9102-610E-417B-9958-09B80E12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FC4-B7FB-4140-9462-BEA23A6C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56C-81A7-4B4B-B275-99DAF933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70C-6120-4200-9327-113D8393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0E6-3789-4403-A9CF-3F36C00C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641-63BB-4945-B32D-1CE99D28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663-7C62-4A24-94AA-82E6987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7AB-BD78-402F-B271-FE9507D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3271-F710-4BCE-8297-B332685BA6B3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EECE-91A6-4B38-BCE3-358FCE610365}" type="slidenum">
              <a:rPr b="0" lang="bg-BG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5"/>
          <p:cNvGraphicFramePr/>
          <p:nvPr/>
        </p:nvGraphicFramePr>
        <p:xfrm>
          <a:off x="179280" y="404640"/>
          <a:ext cx="1071720" cy="10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1071720" cy="10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6"/>
          <p:cNvSpPr/>
          <p:nvPr/>
        </p:nvSpPr>
        <p:spPr>
          <a:xfrm>
            <a:off x="324000" y="404640"/>
            <a:ext cx="7812000" cy="11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250f0d"/>
                </a:solidFill>
                <a:latin typeface="Verdana"/>
              </a:rPr>
              <a:t>MEDICAL UNIVERSITY - PLEVEN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250f0d"/>
                </a:solidFill>
                <a:latin typeface="Verdana"/>
              </a:rPr>
              <a:t>FACULTY OF MEDICINE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0f0d"/>
                </a:solidFill>
                <a:latin typeface="Verdana"/>
              </a:rPr>
              <a:t>DEVISION OF PHYSICS AND BIOPHYS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1547640" y="1160640"/>
            <a:ext cx="540072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3" descr="Capture"/>
          <p:cNvPicPr/>
          <p:nvPr/>
        </p:nvPicPr>
        <p:blipFill>
          <a:blip r:embed="rId3"/>
          <a:stretch/>
        </p:blipFill>
        <p:spPr>
          <a:xfrm>
            <a:off x="0" y="2403360"/>
            <a:ext cx="7848720" cy="3294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5"/>
          <p:cNvSpPr/>
          <p:nvPr/>
        </p:nvSpPr>
        <p:spPr>
          <a:xfrm>
            <a:off x="250920" y="1881360"/>
            <a:ext cx="20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Lecture </a:t>
            </a:r>
            <a:r>
              <a:rPr b="1" lang="bg-BG" sz="1800" spc="-1" strike="noStrike">
                <a:solidFill>
                  <a:srgbClr val="2f1311"/>
                </a:solidFill>
                <a:latin typeface="Arial Black"/>
              </a:rPr>
              <a:t>№ </a:t>
            </a: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176720" y="60498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Prof. M. Alexsandrova, DSc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9:09:48Z</dcterms:created>
  <dc:creator>Tzanev-Home</dc:creator>
  <dc:description/>
  <dc:language>en-US</dc:language>
  <cp:lastModifiedBy>Tzanev-Home</cp:lastModifiedBy>
  <dcterms:modified xsi:type="dcterms:W3CDTF">2015-11-08T19:54:12Z</dcterms:modified>
  <cp:revision>6</cp:revision>
  <dc:subject/>
  <dc:title>Slide 1</dc:title>
</cp:coreProperties>
</file>